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F48C-55C5-4513-83F2-65067FCDF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AA2E-7072-44F5-A297-E551E1688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5073-6DE1-4D20-A8A1-27511231F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B4E4-AE0C-43BC-BBC3-6B68C6F50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8C3-89B1-4180-B1FD-E49E37AC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471-1AC9-4B3B-9581-2A5FAC04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C9D-0000-4E89-83ED-1CCE7ADE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A4C-1E85-456E-8578-9750AA88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2CC-2E0B-4BBB-BF18-42124BD6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F0C-BE20-4C35-BFD9-EAFB0C93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BC6-D6D5-48A8-B37F-8C9EF710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1DD-0613-40B6-B98C-0FC65E9F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D53-2C3B-4916-96E0-8BE94486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08C-7B20-4CBC-8E3B-73FE3A2B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348-DF41-4D2E-A139-F85350CA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0F6-B6CD-4AE3-AF82-697C1A57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15DD-58F6-46D3-970C-20EA6E54C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590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the Missionaries of Charity in Calcutta, India, 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 – won Nobel peace Pr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 – Awarded Bharat Ratna in 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28 – Joined the Sisters of Loreto as a missio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2 – Opened the Kalighat Home for the D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5 – Opened the Nirmala Shishu Bivhan for orphans and homeless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2 – Negotiated a  cease-fire between Israeli and Palestine armies to rescue 37 children from a devastated 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1 – Opened Missionaries for Charity Brothers in 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3 – Suffered heart attack while visiting Pope John Paul II in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cbielecki</cp:lastModifiedBy>
  <dcterms:modified xsi:type="dcterms:W3CDTF">2013-06-04T14:07:51Z</dcterms:modified>
  <cp:revision>17</cp:revision>
  <dc:subject/>
  <dc:title>Profile</dc:title>
</cp:coreProperties>
</file>